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F3B-BEA3-4302-85CA-90DB9D98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0CB-58AD-490F-9D69-8F08B472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0AD-D52F-4219-83F1-51178D4A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E54-149C-46FC-B808-503BCBDA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994F-3677-4BA0-82CB-10B0510E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DA68-5155-44D8-AAB4-D839B33D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8232-EC52-4748-8614-B5911012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502A-09E4-475F-933C-D8A1D715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8E21-EF6C-45B9-8920-3DD2BE20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BD8F-3F47-4924-85CF-9B503E43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0D26-9659-4A66-96A1-1153FC6D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5B5-B49A-4CCF-808E-CF555A2F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E9EC-210B-46D5-B96A-8EE2C22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02EA-E43F-4B62-955C-80FA5572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C5D2-BDE9-4159-AC47-04CBD60E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7F6B-E8E1-45B6-988B-7BAB9D9A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C520-BC29-42A6-887D-2E4ACF11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0262-C704-456F-8358-6F6F5193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7D16-856E-4D5C-9425-ABE7DB8F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CB1D-8284-490A-AEC5-589094F1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2E14-3975-4EAE-B144-2DD22AD5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0096-740E-4B10-A653-C8DE76C8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B59-0459-4604-B9D9-B289905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82DC-0242-4FE2-B7FA-00DBC707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08E7-B8AC-42D5-9CAD-2A8D5A8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87C66-0E71-4256-B0E1-80C8A7C8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461D-6DC2-493C-A764-F5E30591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9AE9-0C78-49C5-B3EF-3631F81B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F6CF-9FE8-4D15-A859-ABC55CE6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71E8-8B8F-4C01-8746-3A6E2A64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4633-2168-47EA-AE44-31E8FB29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25BE-B35B-45C3-A45E-2EE195DD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40F5F-B8DB-45EF-8086-EA024DFC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DCF-2B05-435A-A702-9C68EAD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127C-653E-41BD-ADA6-B440D132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E088-3359-455F-AD59-4F14BF43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8149A-EA94-45C7-BE93-CEE304C1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CAB5-8A79-4531-9C6A-2BFAAA79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E9000-FBB7-4A12-9558-B1B694A0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A615-4BD1-48E7-A443-E4A9F00A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6746-FF6A-4194-95DE-675C61A3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5AF6-9F55-4939-A5C6-E8B1D9E5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99D3-D37F-4862-BDEE-F9BCC4AE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7390D-F134-44A8-94EC-A0E15A57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319-13AC-47B2-8112-C20A3363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FF344-FBE0-478B-8D94-CDF66340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25F30-2D71-4A3C-BC20-EF606451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FCE1-C035-46CF-BF1D-6E3EA1FC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D60C5-63A7-4CD5-8DD6-4B0F5C6F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6925-907D-4F84-8296-EAC2EB65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F749B-9936-4864-AB91-EA361ECC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55E0-7799-44F4-91D3-E44670CF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014C-713C-4076-B79E-4DE0A623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1CB8-9A45-4A93-9763-18197BC1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DC7E1-EFE2-4A93-AEBF-75CB93E2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573-ABF6-44E9-9FD9-97ED2E9D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3689A-42AE-4A30-B70B-BC1271F0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1A504-85AE-4906-AEB0-C2D1DE77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8BFA0-1D2C-4F9D-9AD1-53D52555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F876C-D40F-44AE-9ECF-97B5748B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942A7-7C87-4448-8A21-9EAE0772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CB21-86AF-42F3-BE94-6CEB5B97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D41EE-E7AC-4C03-BDAC-71B81343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E73D8-5F29-4AC5-8776-88BBA618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5CE72-B6BC-45D9-B6F6-C7DF1B08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F652-B6BB-480A-A669-4BEE505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929-0C1C-4A64-86EC-7BF0032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24746-5E7C-4B0C-AFC4-7C9FDF84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A4D2F-8F73-488B-887D-032DDDD5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B297C-CD2D-46CF-A1F9-AE963BA8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76FEC-BE8A-4E45-8A2F-3D02F554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27DAE-98F5-4B77-8AF6-77FB1FBA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7079D-A31E-46EB-9838-4B588FD6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BC9D5-762B-4D00-BD1F-C6E81A94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DF7BB-C570-4F3A-8A35-F6CA823E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67070-BB8B-494B-B2A7-D63BED40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A4B4D-0675-4301-9329-2446A52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7BF-1648-48A8-894B-8F4DF16E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A2D30-C2CD-49B2-A815-87B9F634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683EB-6F61-4843-9CFD-7EF0D816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D2997-BF76-4357-9B88-F449B4BD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5CD6A-4631-4C51-9B0E-E21B7EA9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6AB69-3F1F-4501-B32C-08310EDC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7043B-29DA-41C2-B199-F8AC5FFF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F34B6-4247-4F18-AAC3-0B6CF173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68BA6-10C8-4DB3-971A-BEB3697C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0567D-8F11-4A9A-8218-9E384E97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C4611-FC57-4A25-8BB7-43A46E6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33D-5226-47A0-BBD1-D38F6C1E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40904-3CFF-419B-899E-DC04DBED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650F9-DDC7-4CEB-B82C-312E296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7421F-9221-4E3C-88F8-EAEF328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B89F7-5B67-40EB-8F8A-94E5353B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7C380-959C-4D36-96F2-66C9769E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A6476-B9BC-4AA2-A133-33394007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EB874-FD52-4DDF-97C4-CD290125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BD03E-BEDC-460C-BE87-40C54C9CA9E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933EE-39A5-44D5-9301-C18B5F443D3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51884-4E9D-4624-AE3B-3C59F3D64EB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6975D-9902-4DDA-BC0B-D232D53BF5A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73950-A6A6-474C-8FE0-EB0CF013A4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18D52-5410-42EC-A969-13AA83776C9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E7A6F-61E1-44D1-A497-7789F6FA7A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B1CF7-47F6-4EB7-9E42-95C901441B6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66640" y="1255680"/>
            <a:ext cx="8491680" cy="26337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982880" y="4054320"/>
            <a:ext cx="6400800" cy="148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Michael J Mugavero, M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niversity of Alabama at Birmingh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81080" y="1074600"/>
          <a:ext cx="8799480" cy="4726080"/>
        </p:xfrm>
        <a:graphic>
          <a:graphicData uri="http://schemas.openxmlformats.org/drawingml/2006/table">
            <a:tbl>
              <a:tblPr/>
              <a:tblGrid>
                <a:gridCol w="3031920"/>
                <a:gridCol w="2833920"/>
                <a:gridCol w="293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rederick Altice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ernard Hirschel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lso Ramos-Filho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. Rivet Amico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arles Holmes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obert Remien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avid Bangsberg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hoshana Kahana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mes Scott, Pharm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gda Barini-Garcia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ter Kilmarx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ne Simoni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ohn Bartlett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incy Kumar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imberly Smith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urt Beckwith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ndy Lyles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hael Stirratt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ictoria Cargill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afael Mazin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lanie Thompson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arry Chang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nry Masur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velyn Tomaszewski, M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anessa Elharrar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hael Mugavero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rco Vitoria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a Frazier, 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ter Mugyenyi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dele Webb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ristopher Gordon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an Nachega, MD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obert Gross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herine Orrell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25360" y="233280"/>
            <a:ext cx="8467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57200" y="1792440"/>
            <a:ext cx="8373960" cy="27511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2"/>
          <p:cNvSpPr/>
          <p:nvPr/>
        </p:nvSpPr>
        <p:spPr>
          <a:xfrm>
            <a:off x="1332000" y="6153120"/>
            <a:ext cx="76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Ulett et al.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AIDS Pt Care STDS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2009;23,  Mugavero et al.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lin Infect Dis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2011;52(S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8203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0" descr=""/>
          <p:cNvPicPr/>
          <p:nvPr/>
        </p:nvPicPr>
        <p:blipFill>
          <a:blip r:embed="rId2"/>
          <a:stretch/>
        </p:blipFill>
        <p:spPr>
          <a:xfrm>
            <a:off x="1298520" y="1327320"/>
            <a:ext cx="6391440" cy="44528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1332000" y="6153120"/>
            <a:ext cx="76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Greenberg et al.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Health Affairs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2009;28, Gardner et al.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lin Infect Dis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2011;52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1"/>
          <p:cNvGrpSpPr/>
          <p:nvPr/>
        </p:nvGrpSpPr>
        <p:grpSpPr>
          <a:xfrm>
            <a:off x="5775480" y="2720880"/>
            <a:ext cx="2666880" cy="533520"/>
            <a:chOff x="5775480" y="2720880"/>
            <a:chExt cx="2666880" cy="533520"/>
          </a:xfrm>
        </p:grpSpPr>
        <p:sp>
          <p:nvSpPr>
            <p:cNvPr id="379" name="Oval 32"/>
            <p:cNvSpPr/>
            <p:nvPr/>
          </p:nvSpPr>
          <p:spPr>
            <a:xfrm>
              <a:off x="5775480" y="2720880"/>
              <a:ext cx="266688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33"/>
            <p:cNvSpPr/>
            <p:nvPr/>
          </p:nvSpPr>
          <p:spPr>
            <a:xfrm>
              <a:off x="5997600" y="2797200"/>
              <a:ext cx="237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19% VL&lt;50 c/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9"/>
          <p:cNvSpPr/>
          <p:nvPr/>
        </p:nvSpPr>
        <p:spPr>
          <a:xfrm rot="2755200">
            <a:off x="5344560" y="3656160"/>
            <a:ext cx="711000" cy="24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3" name="Line 8"/>
          <p:cNvSpPr/>
          <p:nvPr/>
        </p:nvSpPr>
        <p:spPr>
          <a:xfrm>
            <a:off x="3602160" y="3117960"/>
            <a:ext cx="1447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441360" y="1736640"/>
            <a:ext cx="3017880" cy="4059360"/>
            <a:chOff x="441360" y="1736640"/>
            <a:chExt cx="3017880" cy="4059360"/>
          </a:xfrm>
        </p:grpSpPr>
        <p:pic>
          <p:nvPicPr>
            <p:cNvPr id="385" name="Picture 7" descr="3651_exterior"/>
            <p:cNvPicPr/>
            <p:nvPr/>
          </p:nvPicPr>
          <p:blipFill>
            <a:blip r:embed="rId2"/>
            <a:stretch/>
          </p:blipFill>
          <p:spPr>
            <a:xfrm>
              <a:off x="441360" y="1736640"/>
              <a:ext cx="3017880" cy="30182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386" name="TextBox 7"/>
            <p:cNvSpPr/>
            <p:nvPr/>
          </p:nvSpPr>
          <p:spPr>
            <a:xfrm>
              <a:off x="441360" y="4879080"/>
              <a:ext cx="301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Lucida Sans Unicode"/>
                </a:rPr>
                <a:t>200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0"/>
          <p:cNvGrpSpPr/>
          <p:nvPr/>
        </p:nvGrpSpPr>
        <p:grpSpPr>
          <a:xfrm>
            <a:off x="5257800" y="1481040"/>
            <a:ext cx="3017880" cy="4782960"/>
            <a:chOff x="5257800" y="1481040"/>
            <a:chExt cx="3017880" cy="4782960"/>
          </a:xfrm>
        </p:grpSpPr>
        <p:pic>
          <p:nvPicPr>
            <p:cNvPr id="388" name="Picture 12" descr="187787_003"/>
            <p:cNvPicPr/>
            <p:nvPr/>
          </p:nvPicPr>
          <p:blipFill>
            <a:blip r:embed="rId3"/>
            <a:stretch/>
          </p:blipFill>
          <p:spPr>
            <a:xfrm>
              <a:off x="5257800" y="1481040"/>
              <a:ext cx="2871720" cy="3750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389" name="TextBox 8"/>
            <p:cNvSpPr/>
            <p:nvPr/>
          </p:nvSpPr>
          <p:spPr>
            <a:xfrm>
              <a:off x="5257800" y="5347080"/>
              <a:ext cx="301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Lucida Sans Unicode"/>
                </a:rPr>
                <a:t>201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12"/>
          <p:cNvGrpSpPr/>
          <p:nvPr/>
        </p:nvGrpSpPr>
        <p:grpSpPr>
          <a:xfrm>
            <a:off x="609480" y="517680"/>
            <a:ext cx="8305920" cy="1752480"/>
            <a:chOff x="609480" y="517680"/>
            <a:chExt cx="8305920" cy="1752480"/>
          </a:xfrm>
        </p:grpSpPr>
        <p:pic>
          <p:nvPicPr>
            <p:cNvPr id="391" name="Picture 3" descr=""/>
            <p:cNvPicPr/>
            <p:nvPr/>
          </p:nvPicPr>
          <p:blipFill>
            <a:blip r:embed="rId1"/>
            <a:stretch/>
          </p:blipFill>
          <p:spPr>
            <a:xfrm>
              <a:off x="609480" y="517680"/>
              <a:ext cx="10209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5" descr=""/>
            <p:cNvPicPr/>
            <p:nvPr/>
          </p:nvPicPr>
          <p:blipFill>
            <a:blip r:embed="rId2"/>
            <a:stretch/>
          </p:blipFill>
          <p:spPr>
            <a:xfrm>
              <a:off x="1752480" y="554040"/>
              <a:ext cx="7162920" cy="163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393" name="Line 4"/>
          <p:cNvSpPr/>
          <p:nvPr/>
        </p:nvSpPr>
        <p:spPr>
          <a:xfrm>
            <a:off x="4456080" y="2292480"/>
            <a:ext cx="0" cy="888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8" descr=""/>
          <p:cNvPicPr/>
          <p:nvPr/>
        </p:nvPicPr>
        <p:blipFill>
          <a:blip r:embed="rId3"/>
          <a:stretch/>
        </p:blipFill>
        <p:spPr>
          <a:xfrm>
            <a:off x="228600" y="3321000"/>
            <a:ext cx="8534520" cy="257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95" name="Rectangle 11"/>
          <p:cNvSpPr/>
          <p:nvPr/>
        </p:nvSpPr>
        <p:spPr>
          <a:xfrm>
            <a:off x="3790800" y="3309840"/>
            <a:ext cx="2514600" cy="25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257480"/>
            <a:ext cx="82296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herence: Quantification of ‘how often’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istence: Quantification of ‘for how long’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tient persistence: Duration of time on prescribed ART allowing for ARV switches / substitu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gimen persistence: Duration of time on a given ART regi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RT: Structured ART interruptions (CD4-guided) deleterious &amp; carry residual eff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mited evidence on unstructured ART interruptions; a “real world” re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4335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1332000" y="6153120"/>
            <a:ext cx="761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e et al.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IDS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2011;25, El-Sadr et al.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 Engl J Med 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2006;35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-Sadr et al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Ann Intern Med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2008;149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Line 4"/>
          <p:cNvSpPr/>
          <p:nvPr/>
        </p:nvSpPr>
        <p:spPr>
          <a:xfrm>
            <a:off x="4599000" y="2516040"/>
            <a:ext cx="0" cy="889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2"/>
          <p:cNvGrpSpPr/>
          <p:nvPr/>
        </p:nvGrpSpPr>
        <p:grpSpPr>
          <a:xfrm>
            <a:off x="457200" y="506520"/>
            <a:ext cx="7751880" cy="2009520"/>
            <a:chOff x="457200" y="506520"/>
            <a:chExt cx="7751880" cy="2009520"/>
          </a:xfrm>
        </p:grpSpPr>
        <p:pic>
          <p:nvPicPr>
            <p:cNvPr id="401" name="Picture 3" descr=""/>
            <p:cNvPicPr/>
            <p:nvPr/>
          </p:nvPicPr>
          <p:blipFill>
            <a:blip r:embed="rId1"/>
            <a:stretch/>
          </p:blipFill>
          <p:spPr>
            <a:xfrm>
              <a:off x="3836880" y="853920"/>
              <a:ext cx="4372200" cy="143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402" name="Picture 5" descr="http://www.iapac.org/images_zd/ADC11-logo-350pix.jpg"/>
            <p:cNvPicPr/>
            <p:nvPr/>
          </p:nvPicPr>
          <p:blipFill>
            <a:blip r:embed="rId2"/>
            <a:stretch/>
          </p:blipFill>
          <p:spPr>
            <a:xfrm>
              <a:off x="457200" y="506520"/>
              <a:ext cx="3333960" cy="200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TextBox 11"/>
          <p:cNvSpPr/>
          <p:nvPr/>
        </p:nvSpPr>
        <p:spPr>
          <a:xfrm>
            <a:off x="4111560" y="3521160"/>
            <a:ext cx="129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358920" y="217440"/>
          <a:ext cx="8480160" cy="6145200"/>
        </p:xfrm>
        <a:graphic>
          <a:graphicData uri="http://schemas.openxmlformats.org/drawingml/2006/table">
            <a:tbl>
              <a:tblPr/>
              <a:tblGrid>
                <a:gridCol w="2709720"/>
                <a:gridCol w="5770440"/>
              </a:tblGrid>
              <a:tr h="631800"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ngth of 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74640"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ng 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most all patients should receive the recommended course of 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st patients should receive the recommended course of action. However, other choices may be appropriate for some pati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30240"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tional 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commended routinely. There may be consideration for this recommendation based on individual patient circumsta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6600"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 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CT evidence without important limit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whelming evidence from observational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(I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CT evidence with important limit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ng evidence from observational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69760"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(II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CT evidence with critical limit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servational study evidence w/o important limit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(I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servational study evidence w/ critical limit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Content Placeholder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APAC: </a:t>
            </a:r>
            <a:r>
              <a:rPr b="0" i="1" lang="en-US" sz="2700" spc="-1" strike="noStrike">
                <a:solidFill>
                  <a:srgbClr val="2da2bf"/>
                </a:solidFill>
                <a:latin typeface="Lucida Sans Unicode"/>
              </a:rPr>
              <a:t>Jose Zuniga PhD, Angela Knuds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DC Prevention Research Synthesis Project: </a:t>
            </a:r>
            <a:r>
              <a:rPr b="0" i="1" lang="en-US" sz="2700" spc="-1" strike="noStrike">
                <a:solidFill>
                  <a:srgbClr val="2da2bf"/>
                </a:solidFill>
                <a:latin typeface="Lucida Sans Unicode"/>
              </a:rPr>
              <a:t>Cindy Lyles PhD, Peter Kilmarx M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terature Review* and Evidence Grading**: </a:t>
            </a:r>
            <a:r>
              <a:rPr b="0" i="1" lang="en-US" sz="2700" spc="-1" strike="noStrike">
                <a:solidFill>
                  <a:srgbClr val="2da2bf"/>
                </a:solidFill>
                <a:latin typeface="Lucida Sans Unicode"/>
              </a:rPr>
              <a:t>Jennifer Johnsen MD MPH*, Laura Bernard MPH**, Kathryn Muessig MPH*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unding: 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US National Institutes of Health, Office of AIDS Resear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07:21Z</dcterms:created>
  <dc:creator/>
  <dc:description/>
  <dc:language>en-US</dc:language>
  <cp:lastModifiedBy/>
  <dcterms:modified xsi:type="dcterms:W3CDTF">2011-05-23T21:51:57Z</dcterms:modified>
  <cp:revision>27</cp:revision>
  <dc:subject/>
  <dc:title>Creating Guidelines for  Treatment Adherence and Entry to and Retention in Care</dc:title>
</cp:coreProperties>
</file>