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385-1BFB-43C4-A78D-524C4DCF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C66-790B-43AB-976F-335975CA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EB2-ACD4-47AE-9EBA-6991D61D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748-0215-4D3F-B85C-738EF562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3CE7-6DE8-4480-B0AA-E481DAD3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9092-F5B4-48B2-B452-87B1D24A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6CD3-A78D-4BF7-9DC5-FB668288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7791-FD87-4F3A-80BD-EC453B3A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E10C-6753-40B4-88A7-77E9C7AE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6B3B-D548-4CD8-9D98-B8432054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3082-8E02-404C-899D-0AE351C7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9AE-D5F4-44C0-801C-B71F525F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BFDD-F48F-42A4-B817-93176B13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58A1-F519-432B-AD3A-B2D6B1DD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9740-88B0-4834-A5D7-FD58AE30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C182-3A48-494E-9B08-6388A1F2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640B-D5EC-4FCF-9EDD-F2EC06DC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8CBD1-CBAE-440B-BF5B-5473A617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53425-7E80-487B-A365-6C8375B0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0A761-D75A-4CD1-9BC7-FC61008C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CA299-E67C-40DA-AE5C-F8379745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CFF4C-5994-4D08-BB69-53224AEC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230-AF31-4269-8722-781AA118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05A0-2513-4B49-A297-FB1D689D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DA4EF-1371-42D1-9729-908A41A3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57077-CC6E-4F90-B9DA-11BD61DC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FC619-9644-4DA5-9A04-0220CC0C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78357-06C4-4404-8A29-765B416B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84D96-532A-432C-AEC1-B542D280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7EC80-DC70-41C4-B3B7-A208B313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81707-A455-4070-B077-5DC2A2C8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33FF7-4CB7-42DB-9639-A48FE189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41B89-37AA-4DED-B61D-6E6E503F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A95-E2D6-4152-A54F-FA39294E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3EF52-8EE2-4869-8B32-EF892348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4A231-8D86-438F-A355-957946EF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16A70-ADD3-4C5E-9C40-D2543684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E46A0-3506-45BC-A7CB-2EF10AA8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9CA38-E33D-45EA-AF5B-BA4FE05C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57712-5905-42DC-9285-6A6BE7E0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5DFC6-3F64-4DA9-B9DE-6564F9F9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5D7B9-3D1E-4556-B45B-4331C441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7C57D-39BA-47F3-B54F-6058209E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0EB94-4D72-4308-92FB-A8C26A2B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358-58BB-4348-8547-5A80049B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D3396-2EFE-465A-854D-25E36D11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4066E-3D3B-4F9D-8D85-2E457DC1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2577F-F625-40B1-B158-7FD0605E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8E621-E3BA-4508-9BD2-F48BA924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D3E4C-4E36-47D8-A5CA-7505C41C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64D07-BC6C-4415-82D3-CB04F6E0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9F8A7-7652-425F-97FD-BD9D0C1F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F60A9-13F2-49C0-B585-732B3154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874CC-F6DF-4777-ACD6-DF410E59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7255E-E5AF-49FC-8E6B-18F4B0CB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BD76-355A-419A-AE6D-546B10C3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1B61D-A231-4B7D-A70D-6E36ADFC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D10A6-AE6E-4969-903F-063174F7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841C1-C578-4078-A177-3CBBEC49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9FAE9-321E-4748-87E8-C3893224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934EE-307F-44C2-95F7-E5B4FFBA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01618-3839-4FBD-B209-14C2A989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CCFF7-6CD4-40EC-8F50-8001DBE0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9664A-2A70-42E3-9CA5-2A4D7508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68AFA-EEAA-4D3F-A69C-A0BD97A6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BC710-20B5-4D76-92AB-F2237BB6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F26-A040-45FE-B03E-19C419AE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87AB4-7481-4A54-BD57-C091904C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768FA-3625-4BB8-961F-E1212585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58D2E-7595-4E87-B705-9B0601A4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43D8D-F051-47E3-8CC5-330D89B7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D724F-07FA-44BF-A533-1E9D4BB1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668F1-6B59-44CD-AEC5-05BA88E8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56C9B-F812-416C-B019-7669679E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6D7E7-4253-482B-B03A-A17067CF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27B79-EF72-4340-AF55-480E8687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843FB-C195-475A-A127-73413635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19AB-5572-482E-B784-8FB9F232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794E1-C506-43D6-BF52-B535F668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24E59-AFCF-4589-BA17-D30DD72A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59FF4-871D-42A1-B3DE-84CE721B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C9B8F-A017-4D8F-B4F2-B1DE8B1E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D8AB2-8C54-4683-A917-203FBA91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C20A3-E3A9-4B17-93BC-A165A633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7AFB4-172C-4B47-B802-47010463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D0DE5-B343-4311-931E-AC6614B4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DCB0F-A5F8-40C0-896C-B9C6D05A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44565-387A-441B-BDD2-66054AA2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029-2790-4606-809E-FCF1FC5C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EC77B-C1F8-4A9E-AABB-14BE3B70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72BFA-7123-48E3-8CE6-A12B5769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AF6C0-C871-4924-AC9C-BD6D8D7C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5C8D1-BD92-4E9D-8562-D95A0554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EC27D-9DA2-4618-B144-523C8696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EECF3-8532-4F57-AF22-B1DA336E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D1AB4-A126-444F-AC66-3B0CAD36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BF922-FA60-41B6-9A78-1DF51C0B3E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2B3EE-F0AB-4B14-9306-590EA80DED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6C86A-4226-4CF4-B360-1921BC1DA2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0C8F0-406D-479B-BDE0-3CC6334834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05AC5-6DF3-414F-B9A5-EE46F8E6E1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84E4B-8FCC-4EA2-8A20-5399D74D75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D56E5-349A-4F36-8B47-ADD3B82441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848FB-87D9-429D-97AD-6F68F05BB3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281160" y="835200"/>
            <a:ext cx="8667720" cy="2232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400800" cy="148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Melanie Thompson, M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AIDS Research Consortium of Atlan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271440" y="1481040"/>
            <a:ext cx="860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terventions to Promote Adherenc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try into and retention in care: </a:t>
            </a:r>
            <a:r>
              <a:rPr b="0" i="1" lang="en-US" sz="2400" spc="-1" strike="noStrike">
                <a:solidFill>
                  <a:srgbClr val="2da2bf"/>
                </a:solidFill>
                <a:latin typeface="Lucida Sans Unicode"/>
              </a:rPr>
              <a:t>John G Bartlet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tiretroviral treatment strategies: </a:t>
            </a:r>
            <a:r>
              <a:rPr b="0" i="1" lang="en-US" sz="2400" spc="-1" strike="noStrike">
                <a:solidFill>
                  <a:srgbClr val="2da2bf"/>
                </a:solidFill>
                <a:latin typeface="Lucida Sans Unicode"/>
              </a:rPr>
              <a:t>Michael Mugaver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havioral interventions: </a:t>
            </a:r>
            <a:r>
              <a:rPr b="0" i="1" lang="en-US" sz="2400" spc="-1" strike="noStrike">
                <a:solidFill>
                  <a:srgbClr val="2da2bf"/>
                </a:solidFill>
                <a:latin typeface="Lucida Sans Unicode"/>
              </a:rPr>
              <a:t>K. Rivet Amic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ructural interventions: </a:t>
            </a:r>
            <a:r>
              <a:rPr b="0" i="1" lang="en-US" sz="2400" spc="-1" strike="noStrike">
                <a:solidFill>
                  <a:srgbClr val="2da2bf"/>
                </a:solidFill>
                <a:latin typeface="Lucida Sans Unicode"/>
              </a:rPr>
              <a:t>Chris Gord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herence tools: </a:t>
            </a:r>
            <a:r>
              <a:rPr b="0" lang="en-US" sz="2400" spc="-1" strike="noStrike">
                <a:solidFill>
                  <a:srgbClr val="2da2bf"/>
                </a:solidFill>
                <a:latin typeface="Lucida Sans Unicode"/>
              </a:rPr>
              <a:t>Jim Scot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ecial Topics Affecting Adheren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ubstance use: </a:t>
            </a:r>
            <a:r>
              <a:rPr b="0" i="1" lang="en-US" sz="2400" spc="-1" strike="noStrike">
                <a:solidFill>
                  <a:srgbClr val="2da2bf"/>
                </a:solidFill>
                <a:latin typeface="Lucida Sans Unicode"/>
              </a:rPr>
              <a:t>Rick Alti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current medical conditions: </a:t>
            </a:r>
            <a:r>
              <a:rPr b="0" i="1" lang="en-US" sz="2400" spc="-1" strike="noStrike">
                <a:solidFill>
                  <a:srgbClr val="2da2bf"/>
                </a:solidFill>
                <a:latin typeface="Lucida Sans Unicode"/>
              </a:rPr>
              <a:t>Princy Kum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melessness: </a:t>
            </a:r>
            <a:r>
              <a:rPr b="0" i="1" lang="en-US" sz="2400" spc="-1" strike="noStrike">
                <a:solidFill>
                  <a:srgbClr val="2da2bf"/>
                </a:solidFill>
                <a:latin typeface="Lucida Sans Unicode"/>
              </a:rPr>
              <a:t>David Bangsber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ental health: </a:t>
            </a:r>
            <a:r>
              <a:rPr b="0" i="1" lang="en-US" sz="2400" spc="-1" strike="noStrike">
                <a:solidFill>
                  <a:srgbClr val="2da2bf"/>
                </a:solidFill>
                <a:latin typeface="Lucida Sans Unicode"/>
              </a:rPr>
              <a:t>Michael Stirrat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carceration: </a:t>
            </a:r>
            <a:r>
              <a:rPr b="0" i="1" lang="en-US" sz="2400" spc="-1" strike="noStrike">
                <a:solidFill>
                  <a:srgbClr val="2da2bf"/>
                </a:solidFill>
                <a:latin typeface="Lucida Sans Unicode"/>
              </a:rPr>
              <a:t>Curt Beckwith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ildren and adolescents: </a:t>
            </a:r>
            <a:r>
              <a:rPr b="0" i="1" lang="en-US" sz="2400" spc="-1" strike="noStrike">
                <a:solidFill>
                  <a:srgbClr val="2da2bf"/>
                </a:solidFill>
                <a:latin typeface="Lucida Sans Unicode"/>
              </a:rPr>
              <a:t>Adele Webb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egnancy: </a:t>
            </a:r>
            <a:r>
              <a:rPr b="0" i="1" lang="en-US" sz="2400" spc="-1" strike="noStrike">
                <a:solidFill>
                  <a:srgbClr val="2da2bf"/>
                </a:solidFill>
                <a:latin typeface="Lucida Sans Unicode"/>
              </a:rPr>
              <a:t>Jean Nacheg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181080" y="861840"/>
          <a:ext cx="8799480" cy="4988160"/>
        </p:xfrm>
        <a:graphic>
          <a:graphicData uri="http://schemas.openxmlformats.org/drawingml/2006/table">
            <a:tbl>
              <a:tblPr/>
              <a:tblGrid>
                <a:gridCol w="3031920"/>
                <a:gridCol w="2833920"/>
                <a:gridCol w="2933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rederick Altice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ernard Hirschel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lso Ramos-Filho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K. Rivet Amico, 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harles Holmes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obert Remien, 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avid Bangsberg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hoshana Kahana, 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mes Scott, Pharm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gda Barini-Garcia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eter Kilmarx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ne Simoni, 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ohn G Bartlett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incy Kumar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Kimberly Smith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urt Beckwith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indy Lyles, 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chael Stirratt, 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ictoria Cargill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afael Mazin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lanie Thompson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arry Chang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nry Masur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velyn Tomaszewski, MS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anessa Elharrar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chael Mugavero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rco Antonio de Avila Vitoria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ia Frazier, 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eter Mugyenyi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dele Webb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hristopher Gordon, 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an Nachega, MD 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obert Gross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therine Orrell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25360" y="66600"/>
            <a:ext cx="84679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Content Placeholder 3" descr=""/>
          <p:cNvPicPr/>
          <p:nvPr/>
        </p:nvPicPr>
        <p:blipFill>
          <a:blip r:embed="rId1"/>
          <a:stretch/>
        </p:blipFill>
        <p:spPr>
          <a:xfrm>
            <a:off x="268200" y="1414440"/>
            <a:ext cx="8479080" cy="4967280"/>
          </a:xfrm>
          <a:prstGeom prst="rect">
            <a:avLst/>
          </a:prstGeom>
          <a:ln w="0">
            <a:noFill/>
          </a:ln>
        </p:spPr>
      </p:pic>
      <p:pic>
        <p:nvPicPr>
          <p:cNvPr id="395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4"/>
          <p:cNvSpPr/>
          <p:nvPr/>
        </p:nvSpPr>
        <p:spPr>
          <a:xfrm>
            <a:off x="4011480" y="5727600"/>
            <a:ext cx="46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27a8f"/>
                </a:solidFill>
                <a:latin typeface="Lucida Sans Unicode"/>
              </a:rPr>
              <a:t>Publication!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APAC: </a:t>
            </a:r>
            <a:r>
              <a:rPr b="0" i="1" lang="en-US" sz="2700" spc="-1" strike="noStrike">
                <a:solidFill>
                  <a:srgbClr val="2da2bf"/>
                </a:solidFill>
                <a:latin typeface="Lucida Sans Unicode"/>
              </a:rPr>
              <a:t>Jose Zuniga PhD, Angela Knudso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DC Prevention Research Synthesis Project: </a:t>
            </a:r>
            <a:r>
              <a:rPr b="0" i="1" lang="en-US" sz="2700" spc="-1" strike="noStrike">
                <a:solidFill>
                  <a:srgbClr val="2da2bf"/>
                </a:solidFill>
                <a:latin typeface="Lucida Sans Unicode"/>
              </a:rPr>
              <a:t>Cindy Lyles PhD, Peter Kilmarx M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terature Review* and Evidence Grading**: </a:t>
            </a:r>
            <a:r>
              <a:rPr b="0" i="1" lang="en-US" sz="2700" spc="-1" strike="noStrike">
                <a:solidFill>
                  <a:srgbClr val="2da2bf"/>
                </a:solidFill>
                <a:latin typeface="Lucida Sans Unicode"/>
              </a:rPr>
              <a:t>Jennifer Johnsen MD MPH*, Laura Bernard MPH**, Kathryn Muessig MPH**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unding:  </a:t>
            </a:r>
            <a:r>
              <a:rPr b="0" i="1" lang="en-US" sz="2700" spc="-1" strike="noStrike">
                <a:solidFill>
                  <a:srgbClr val="2da2bf"/>
                </a:solidFill>
                <a:latin typeface="Lucida Sans Unicode"/>
              </a:rPr>
              <a:t>US National Institutes of Health, Office of AIDS Resear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o improve treatment outcomes through evidence-based recommendations for maximizing treatment adherence, and optimizing entry into and retention in car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7000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eatment adherence guidelines have never before been cre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cience of treatment adherence is cross-cutting, including virology, pharmacology, behavioral science, sociology, technology, and health care implementation and delive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try into and retention in care are an essential component of antiretroviral treatment success, but are complex and have not been well studi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ne size does NOT fit al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spcAft>
                <a:spcPts val="1199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reatment adherence strategies are contextual and may have different outcomes depending on populations and health care setting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ttempt to make global recommendations requires recognition of structural and cultural challenges as well as resource limita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1279440"/>
            <a:ext cx="839628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unding by IAPAC, NIH Office of AIDS Research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nvening of panel of international leaders in antiretroviral therapy and treatment adheren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reation of draft outli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ppointment of section and topic lead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velopment of methodology protoco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84981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6840" y="879120"/>
            <a:ext cx="83962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ystematic review of the litera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rading of the eviden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rading of recommendations (consensu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rafting of docu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ublication of guidelines docu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ublication of implementation materials as “tool kit”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49120"/>
            <a:ext cx="84981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10628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aboration with CDC’s Prevention Research Synthesis Projec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Nearly 45,000 citations from 1996 to 12/2010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lected studies focused on behavioral interven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andomized control trials or controlled trials with comparator group to minimize bi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eported adherence or biologic outcom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panded scope to inclu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ntry into and retention in care literat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dditional key word searches for content other than behavioral intervention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dditional literature reviews done by panel member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eer reviewed conference abstracts over last 2 year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74680" y="-6480"/>
            <a:ext cx="87408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idence grading pro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spcAft>
                <a:spcPts val="601"/>
              </a:spcAft>
              <a:buClr>
                <a:srgbClr val="2da2bf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chrane criteria for RCTs, Newcastle-Ottawa criteria for observational stud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spcAft>
                <a:spcPts val="601"/>
              </a:spcAft>
              <a:buClr>
                <a:srgbClr val="2da2bf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Quality scoring by 2 independent consultant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spcAft>
                <a:spcPts val="601"/>
              </a:spcAft>
              <a:buClr>
                <a:srgbClr val="2da2bf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anel ultimately responsible for grad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mmendation grading process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ody of evidence to be rank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rength of recommendation assigned by pan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Justification of recommendations based upon evid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723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271440" y="1481040"/>
            <a:ext cx="860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ackground &amp; Rationale: </a:t>
            </a:r>
            <a:r>
              <a:rPr b="0" i="1" lang="en-US" sz="2800" spc="-1" strike="noStrike">
                <a:solidFill>
                  <a:srgbClr val="2da2bf"/>
                </a:solidFill>
                <a:latin typeface="Lucida Sans Unicode"/>
              </a:rPr>
              <a:t>Jean Nachega &amp; Melanie Thomps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thodology: </a:t>
            </a:r>
            <a:r>
              <a:rPr b="0" i="1" lang="en-US" sz="2800" spc="-1" strike="noStrike">
                <a:solidFill>
                  <a:srgbClr val="2da2bf"/>
                </a:solidFill>
                <a:latin typeface="Lucida Sans Unicode"/>
              </a:rPr>
              <a:t>Larry Cha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onitoring and Measurement of Adherence: </a:t>
            </a:r>
            <a:r>
              <a:rPr b="0" i="1" lang="en-US" sz="2800" spc="-1" strike="noStrike">
                <a:solidFill>
                  <a:srgbClr val="2da2bf"/>
                </a:solidFill>
                <a:latin typeface="Lucida Sans Unicode"/>
              </a:rPr>
              <a:t>Robert Gro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terventions to Promote Adherence:   </a:t>
            </a:r>
            <a:r>
              <a:rPr b="0" i="1" lang="en-US" sz="2800" spc="-1" strike="noStrike">
                <a:solidFill>
                  <a:srgbClr val="2da2bf"/>
                </a:solidFill>
                <a:latin typeface="Lucida Sans Unicode"/>
              </a:rPr>
              <a:t>Michael Mugaver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ecial Topics: </a:t>
            </a:r>
            <a:r>
              <a:rPr b="0" i="1" lang="en-US" sz="2800" spc="-1" strike="noStrike">
                <a:solidFill>
                  <a:srgbClr val="2da2bf"/>
                </a:solidFill>
                <a:latin typeface="Lucida Sans Unicode"/>
              </a:rPr>
              <a:t>Victoria Cargil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ssues Specific To Resource-limited Settings: </a:t>
            </a:r>
            <a:r>
              <a:rPr b="0" i="1" lang="en-US" sz="2800" spc="-1" strike="noStrike">
                <a:solidFill>
                  <a:srgbClr val="2da2bf"/>
                </a:solidFill>
                <a:latin typeface="Lucida Sans Unicode"/>
              </a:rPr>
              <a:t>Catherine Orrel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2T13:15:05Z</dcterms:created>
  <dc:creator/>
  <dc:description/>
  <dc:language>en-US</dc:language>
  <cp:lastModifiedBy/>
  <dcterms:modified xsi:type="dcterms:W3CDTF">2011-05-23T21:53:14Z</dcterms:modified>
  <cp:revision>13</cp:revision>
  <dc:subject/>
  <dc:title>Creating Guidelines for  Treatment Adherence and Entry to and Retention in Care</dc:title>
</cp:coreProperties>
</file>