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821-52F6-4574-A2BF-B57243A8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CEC-D2CF-4D4F-AD14-5F81310D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01D-9986-4AAB-A1BA-38064FF7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2A5-14A4-4CA6-B0BD-84AF76F5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38B-AEA8-4DED-9697-82C27B37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E15-433F-49CC-86A1-CDFF0435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9A6-526A-4B1D-AF7A-78D66163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20E-0961-429B-9378-1048843D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56C-7DA9-4815-B60D-D40C09A7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14E-0367-46A2-BDBB-920E4303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CEA-5FF0-4EAF-AB46-58EA04F5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8A7-7B6D-4E38-B156-CAFE300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BF1-13A6-41AD-BB9A-3F6148E6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ory to Practi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DC highlights 8 “good” adherence interven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e they ready for prime tim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om efficacy to effectiveness to implemen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lementation Sc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implementation research help us move theory into practi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re are the “best” intervention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(CDC) bar too hig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diction: We’ll be seeing more of thi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93800" y="295200"/>
            <a:ext cx="2117520" cy="1282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5022720" y="514440"/>
            <a:ext cx="24433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ve b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re go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dherence Research is on the G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apting to new populations, places, problem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do we get ther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’s core to the theor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makes the intervention wor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can chang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eed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: thoughtful, organized approaches: a type of implementation science research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93800" y="295200"/>
            <a:ext cx="2117520" cy="1282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022720" y="514440"/>
            <a:ext cx="24433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ve b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re go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(That pea is still under our mattress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o gold stand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be the MEMS sun is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w technologies are not yet r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ntext is every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the future: human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diction: Measurement will haunt the halls of implementation science project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93800" y="295200"/>
            <a:ext cx="2117520" cy="1282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022720" y="514440"/>
            <a:ext cx="24433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ve b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re go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mmunity Adherence Work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effective, maybe ke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o are they? (Peers, family, nurses?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are they trained? Does the theory matt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are the keys to their effectivenes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support do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they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ne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eed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: more information about all the abo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793800" y="295200"/>
            <a:ext cx="2117520" cy="1282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022720" y="514440"/>
            <a:ext cx="24433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ve b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re go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w intervention studies should be designed with the CDC RSG criteria in mind. So we will have BEST evidence as well as goo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aptation process should follow a coherent and documented blueprint, so others can follow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velop the technology while honoring the hum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member those who do the 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93800" y="295200"/>
            <a:ext cx="2117520" cy="1282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022720" y="514440"/>
            <a:ext cx="24433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ve b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e’re go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/>
  <dc:description/>
  <dc:language>en-US</dc:language>
  <cp:lastModifiedBy/>
  <dcterms:modified xsi:type="dcterms:W3CDTF">2011-05-25T02:25:46Z</dcterms:modified>
  <cp:revision>1</cp:revision>
  <dc:subject/>
  <dc:title>PowerPoint Presentation</dc:title>
</cp:coreProperties>
</file>