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F6FC-FA13-4194-988B-AD1D2B2CE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83C87E9-9CF9-42DB-B008-6A51D8009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AD1-480A-47AD-971E-848C55B4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2CA-9B78-41C4-9BCE-A544848B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486-B22A-4932-AB35-B010D50A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3FF-15C1-402E-9C03-B5DB6340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129D-105C-4E08-8F0A-5B2B7D66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6AD0-34D5-4162-9D85-B0AE5A4F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DA6F-505C-43B4-8949-5FC7E27F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8234-D885-4D94-ADA1-97EE3275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07AC-07C8-4410-B737-EB6B708A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9555-D10C-4916-90D0-9E7BD26F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BACA-8D55-42EA-A078-CA6C04A1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D1B-2C58-4340-95AA-CC8D20D6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A397-AB34-447A-9A22-D1022DA5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9B14-1F05-4E0E-84D4-DE184BAB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0FD3-77F8-443E-97BF-290C7856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4B5A-D5F6-4446-B42B-AC49BDA1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CF95-CBF3-4DD2-AF22-9A478FBC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E7E-D05D-4DBF-AA1A-6EDFDE6C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7C8-6D75-4990-A582-95106FDF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E11-B613-4FD8-8E6D-3086325F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8B7-8B56-4EA2-8F59-90FCCE2D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5FE-C5C8-47E5-89F1-E77F18FD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22E2-0566-4E2A-87B6-277D430D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65C-25CD-4176-A725-6FBF60EC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3226-4991-4264-9A8C-EBBA3CF30BB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2" descr="Hillman_B_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46" name="Picture 9" descr="UAB 1917 Clinic Cohort Logo 08"/>
          <p:cNvPicPr/>
          <p:nvPr/>
        </p:nvPicPr>
        <p:blipFill>
          <a:blip r:embed="rId3"/>
          <a:stretch/>
        </p:blipFill>
        <p:spPr>
          <a:xfrm>
            <a:off x="152280" y="5516640"/>
            <a:ext cx="1676520" cy="126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2A39-9C79-4FEF-AD69-8A86E7311E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Michael J. Mugavero, MD, MH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University of Alabama at Birming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5"/>
          <p:cNvSpPr txBox="1"/>
          <p:nvPr/>
        </p:nvSpPr>
        <p:spPr>
          <a:xfrm>
            <a:off x="1143000" y="1523880"/>
            <a:ext cx="7086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542a"/>
                </a:solidFill>
                <a:latin typeface="Microsoft Sans Serif"/>
              </a:rPr>
              <a:t>Engagement and Retention in Care</a:t>
            </a:r>
            <a:endParaRPr b="0" lang="en-US" sz="3600" spc="1" strike="noStrike">
              <a:ln w="12600">
                <a:solidFill>
                  <a:srgbClr val="000000"/>
                </a:solidFill>
                <a:miter/>
              </a:ln>
              <a:solidFill>
                <a:srgbClr val="00542a"/>
              </a:solidFill>
              <a:latin typeface="Microsoft Sans Serif"/>
              <a:ea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542a"/>
                </a:solidFill>
                <a:latin typeface="Microsoft Sans Serif"/>
              </a:rPr>
              <a:t>Summary &amp; Future Directions</a:t>
            </a:r>
            <a:endParaRPr b="0" lang="en-US" sz="3600" spc="1" strike="noStrike">
              <a:ln w="12600">
                <a:solidFill>
                  <a:srgbClr val="000000"/>
                </a:solidFill>
                <a:miter/>
              </a:ln>
              <a:solidFill>
                <a:srgbClr val="00542a"/>
              </a:solidFill>
              <a:latin typeface="Microsoft Sans Serif"/>
              <a:ea typeface="Microsoft Sans Serif"/>
            </a:endParaRPr>
          </a:p>
        </p:txBody>
      </p:sp>
      <p:pic>
        <p:nvPicPr>
          <p:cNvPr id="97" name="Picture 18" descr="https://www.confmanager.com/communities/c2289/files/Logo%20Adherence%202011%20-%20October%2022,%202010.jpg"/>
          <p:cNvPicPr/>
          <p:nvPr/>
        </p:nvPicPr>
        <p:blipFill>
          <a:blip r:embed="rId1"/>
          <a:stretch/>
        </p:blipFill>
        <p:spPr>
          <a:xfrm>
            <a:off x="3733920" y="5181480"/>
            <a:ext cx="2590560" cy="1503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Picture 18" descr="UAB CFAR Saag"/>
          <p:cNvPicPr/>
          <p:nvPr/>
        </p:nvPicPr>
        <p:blipFill>
          <a:blip r:embed="rId2"/>
          <a:srcRect l="11252" t="0" r="3751" b="0"/>
          <a:stretch/>
        </p:blipFill>
        <p:spPr>
          <a:xfrm>
            <a:off x="7432560" y="5821200"/>
            <a:ext cx="1482840" cy="731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icrosoft Sans Serif"/>
              </a:rPr>
              <a:t>Evaluating the Implementation of a Comprehensive Care Coordination Program in NYC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Text Box 112"/>
          <p:cNvSpPr/>
          <p:nvPr/>
        </p:nvSpPr>
        <p:spPr>
          <a:xfrm>
            <a:off x="380880" y="6172200"/>
            <a:ext cx="83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Yoran Grant et al. Oral session 7; Abstract 69986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36" name="Group 16" descr=""/>
          <p:cNvPicPr/>
          <p:nvPr/>
        </p:nvPicPr>
        <p:blipFill>
          <a:blip r:embed="rId1"/>
          <a:stretch/>
        </p:blipFill>
        <p:spPr>
          <a:xfrm>
            <a:off x="755640" y="1365120"/>
            <a:ext cx="7486560" cy="46213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0"/>
          <p:cNvGrpSpPr/>
          <p:nvPr/>
        </p:nvGrpSpPr>
        <p:grpSpPr>
          <a:xfrm>
            <a:off x="108000" y="1219320"/>
            <a:ext cx="8807400" cy="4967280"/>
            <a:chOff x="108000" y="1219320"/>
            <a:chExt cx="8807400" cy="4967280"/>
          </a:xfrm>
        </p:grpSpPr>
        <p:pic>
          <p:nvPicPr>
            <p:cNvPr id="138" name="Content Placeholder 3" descr=""/>
            <p:cNvPicPr/>
            <p:nvPr/>
          </p:nvPicPr>
          <p:blipFill>
            <a:blip r:embed="rId2"/>
            <a:stretch/>
          </p:blipFill>
          <p:spPr>
            <a:xfrm>
              <a:off x="108000" y="1219320"/>
              <a:ext cx="8807400" cy="49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6"/>
            <p:cNvSpPr/>
            <p:nvPr/>
          </p:nvSpPr>
          <p:spPr>
            <a:xfrm>
              <a:off x="762120" y="5334120"/>
              <a:ext cx="746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Clients may change tracks within the model based on their needs</a:t>
              </a: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838188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icrosoft Sans Serif"/>
              </a:rPr>
              <a:t>Integrated Programs across Treatment Cascade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429000" cy="250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4038480" y="990720"/>
            <a:ext cx="4191120" cy="134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Picture 8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3429000" cy="209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4057560" y="4648320"/>
            <a:ext cx="4019760" cy="1976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380880" y="3581280"/>
            <a:ext cx="3395880" cy="277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Future Direction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00542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icrosoft Sans Serif"/>
              </a:rPr>
              <a:t>Comparison of retention measures with one another and outcomes; (no “gold standard”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00542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icrosoft Sans Serif"/>
              </a:rPr>
              <a:t>Measurement across treatment casc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Use of publicly reported HIV biomarkers as a proxy   for primary HIV medical care visi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Measurement of pts LTFU: lost to clinic vs. lost to medical ca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Integration of data sources to improve measurem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542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icrosoft Sans Serif"/>
              </a:rPr>
              <a:t>Need for intervention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Integrated interventions across treatment casc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42a"/>
                </a:solidFill>
                <a:latin typeface="Microsoft Sans Serif"/>
              </a:rPr>
              <a:t>Thanks!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http://upload.wikimedia.org/wikipedia/commons/thumb/4/4d/US-NIH-NIMH-Logo.svg/720px-US-NIH-NIMH-Logo.svg.png"/>
          <p:cNvPicPr/>
          <p:nvPr/>
        </p:nvPicPr>
        <p:blipFill>
          <a:blip r:embed="rId1"/>
          <a:stretch/>
        </p:blipFill>
        <p:spPr>
          <a:xfrm>
            <a:off x="3505320" y="1758960"/>
            <a:ext cx="1447560" cy="1060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IAPAC_logo"/>
          <p:cNvPicPr/>
          <p:nvPr/>
        </p:nvPicPr>
        <p:blipFill>
          <a:blip r:embed="rId2"/>
          <a:stretch/>
        </p:blipFill>
        <p:spPr>
          <a:xfrm>
            <a:off x="609480" y="1893960"/>
            <a:ext cx="2590920" cy="849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pim_logo"/>
          <p:cNvPicPr/>
          <p:nvPr/>
        </p:nvPicPr>
        <p:blipFill>
          <a:blip r:embed="rId3"/>
          <a:stretch/>
        </p:blipFill>
        <p:spPr>
          <a:xfrm>
            <a:off x="5410080" y="1727280"/>
            <a:ext cx="3353040" cy="1015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7"/>
          <p:cNvSpPr/>
          <p:nvPr/>
        </p:nvSpPr>
        <p:spPr>
          <a:xfrm>
            <a:off x="457200" y="1050840"/>
            <a:ext cx="243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icrosoft Sans Serif"/>
              </a:rPr>
              <a:t>Sponsors: </a:t>
            </a:r>
            <a:endParaRPr b="0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457200" y="3200400"/>
            <a:ext cx="6248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icrosoft Sans Serif"/>
              </a:rPr>
              <a:t>Co-sponsors and supporters  Program committee                     Faculty                                         Oral and poster abstract presenters                                          Delegates (You!)</a:t>
            </a:r>
            <a:endParaRPr b="0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219320" y="289080"/>
            <a:ext cx="7238880" cy="237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"/>
          <p:cNvPicPr/>
          <p:nvPr/>
        </p:nvPicPr>
        <p:blipFill>
          <a:blip r:embed="rId2"/>
          <a:stretch/>
        </p:blipFill>
        <p:spPr>
          <a:xfrm>
            <a:off x="2286000" y="2759040"/>
            <a:ext cx="4876920" cy="339876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31"/>
          <p:cNvGrpSpPr/>
          <p:nvPr/>
        </p:nvGrpSpPr>
        <p:grpSpPr>
          <a:xfrm>
            <a:off x="5638680" y="3733920"/>
            <a:ext cx="2667240" cy="533160"/>
            <a:chOff x="5638680" y="3733920"/>
            <a:chExt cx="2667240" cy="533160"/>
          </a:xfrm>
        </p:grpSpPr>
        <p:sp>
          <p:nvSpPr>
            <p:cNvPr id="102" name="Oval 32"/>
            <p:cNvSpPr/>
            <p:nvPr/>
          </p:nvSpPr>
          <p:spPr>
            <a:xfrm>
              <a:off x="5638680" y="3733920"/>
              <a:ext cx="266724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03" name="Text Box 33"/>
            <p:cNvSpPr/>
            <p:nvPr/>
          </p:nvSpPr>
          <p:spPr>
            <a:xfrm>
              <a:off x="5860800" y="3809880"/>
              <a:ext cx="237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 Unicode"/>
                </a:rPr>
                <a:t>19% VL&lt;50 c/mL</a:t>
              </a:r>
              <a:endParaRPr b="0" lang="en-US" sz="20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</p:grpSp>
      <p:sp>
        <p:nvSpPr>
          <p:cNvPr id="104" name="Text Box 2"/>
          <p:cNvSpPr/>
          <p:nvPr/>
        </p:nvSpPr>
        <p:spPr>
          <a:xfrm>
            <a:off x="380880" y="620244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Ulett et al. </a:t>
            </a: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</a:rPr>
              <a:t>AIDS Pt Care STDS </a:t>
            </a: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2009;23,  Mugavero et al. </a:t>
            </a: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</a:rPr>
              <a:t>Clin Infect Dis</a:t>
            </a: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 2011;52(S2),   Gardner et al. Clin Infect Dis 2011;52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12"/>
          <p:cNvSpPr/>
          <p:nvPr/>
        </p:nvSpPr>
        <p:spPr>
          <a:xfrm>
            <a:off x="380880" y="6172200"/>
            <a:ext cx="83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Mugavero, Davila, Nevin &amp; Giordano. </a:t>
            </a: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</a:rPr>
              <a:t>AIDS Pt Care STDs </a:t>
            </a: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2010;24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6" name="Picture 134" descr=""/>
          <p:cNvPicPr/>
          <p:nvPr/>
        </p:nvPicPr>
        <p:blipFill>
          <a:blip r:embed="rId1"/>
          <a:stretch/>
        </p:blipFill>
        <p:spPr>
          <a:xfrm>
            <a:off x="914400" y="339840"/>
            <a:ext cx="6858000" cy="35258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6"/>
          <p:cNvSpPr/>
          <p:nvPr/>
        </p:nvSpPr>
        <p:spPr>
          <a:xfrm>
            <a:off x="1566720" y="2278080"/>
            <a:ext cx="5634360" cy="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809880"/>
          <a:ext cx="8305920" cy="2286000"/>
        </p:xfrm>
        <a:graphic>
          <a:graphicData uri="http://schemas.openxmlformats.org/drawingml/2006/table">
            <a:tbl>
              <a:tblPr/>
              <a:tblGrid>
                <a:gridCol w="1371600"/>
                <a:gridCol w="1219320"/>
                <a:gridCol w="1523880"/>
                <a:gridCol w="1523880"/>
                <a:gridCol w="1067040"/>
                <a:gridCol w="182520"/>
                <a:gridCol w="1417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ssed Vi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t. Adh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t Consta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p in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SA HAB Mea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;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;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;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;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icrosoft Sans Serif"/>
              </a:rPr>
              <a:t>Gaps in HIV-Care: An Evaluation of the Association of Gap Length with Virologic, Immunologic, and Clinical Outcomes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0" name="Object 30"/>
          <p:cNvGraphicFramePr/>
          <p:nvPr/>
        </p:nvGraphicFramePr>
        <p:xfrm>
          <a:off x="685800" y="1752480"/>
          <a:ext cx="7696080" cy="441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96080" cy="44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6"/>
          <p:cNvSpPr/>
          <p:nvPr/>
        </p:nvSpPr>
        <p:spPr>
          <a:xfrm>
            <a:off x="3124080" y="22096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% VL Suppressed Prior to Gap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3" name="Text Box 112"/>
          <p:cNvSpPr/>
          <p:nvPr/>
        </p:nvSpPr>
        <p:spPr>
          <a:xfrm>
            <a:off x="380880" y="6172200"/>
            <a:ext cx="83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Andre Melendez et al. Oral session 2; Abstract 70022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3184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icrosoft Sans Serif"/>
              </a:rPr>
              <a:t>Appointment Keeping, Medication Adherence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Microsoft Sans Serif"/>
              </a:rPr>
              <a:t>and Clinical Outcomes in Patients with HIV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Text Box 112"/>
          <p:cNvSpPr/>
          <p:nvPr/>
        </p:nvSpPr>
        <p:spPr>
          <a:xfrm>
            <a:off x="380880" y="6172200"/>
            <a:ext cx="83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Judith Erlen et al. Oral session 2; Abstract 70076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769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184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icrosoft Sans Serif"/>
              </a:rPr>
              <a:t>Feasibility of a Test and Treat Approach in Routine HIV Care: Results from the Steps Study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Text Box 112"/>
          <p:cNvSpPr/>
          <p:nvPr/>
        </p:nvSpPr>
        <p:spPr>
          <a:xfrm>
            <a:off x="380880" y="6172200"/>
            <a:ext cx="83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Thomas Giordano et al. Oral session 2; Abstract 70063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-380880" y="2286000"/>
            <a:ext cx="6324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Microsoft Sans Serif"/>
                <a:ea typeface="ＭＳ Ｐゴシック"/>
              </a:rPr>
              <a:t>Successful Steps of Care: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  <a:ea typeface="ＭＳ Ｐゴシック"/>
              </a:rPr>
              <a:t>1st visit w/in 90 days of diagnosi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  <a:ea typeface="ＭＳ Ｐゴシック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  <a:ea typeface="ＭＳ Ｐゴシック"/>
              </a:rPr>
              <a:t>Prescribed ART w/in 90 days 1st visit 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  <a:ea typeface="ＭＳ Ｐゴシック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  <a:ea typeface="ＭＳ Ｐゴシック"/>
              </a:rPr>
              <a:t>Visits in 3 or 4 of 4 quarters of 1st yr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20" name="Chart 7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504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icrosoft Sans Serif"/>
              </a:rPr>
              <a:t>Why Patients in Jos, Nigeria Miss Clinic Visits:    A Qualitative Analysis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Text Box 112"/>
          <p:cNvSpPr/>
          <p:nvPr/>
        </p:nvSpPr>
        <p:spPr>
          <a:xfrm>
            <a:off x="380880" y="6172200"/>
            <a:ext cx="83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Grace Awoleye et al. and Katherine Schafer et al. Oral session 6; Abstracts 69936 &amp; 69951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8021880" cy="172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Rectangle 2"/>
          <p:cNvSpPr/>
          <p:nvPr/>
        </p:nvSpPr>
        <p:spPr>
          <a:xfrm>
            <a:off x="380880" y="3200400"/>
            <a:ext cx="83822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icrosoft Sans Serif"/>
              </a:rPr>
              <a:t>Intimate partner violence, Childhood sexual abuse and implications for engagement in care</a:t>
            </a:r>
            <a:endParaRPr b="0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85899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3184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icrosoft Sans Serif"/>
              </a:rPr>
              <a:t>Improving Retention in Care through Patient Tracking in Sub-Saharan Africa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Text Box 112"/>
          <p:cNvSpPr/>
          <p:nvPr/>
        </p:nvSpPr>
        <p:spPr>
          <a:xfrm>
            <a:off x="380880" y="6172200"/>
            <a:ext cx="83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Nancin Dadem et al. Oral session 7; Abstract 69965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28" name="Content Placeholder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248600" cy="38862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762120" y="5410080"/>
            <a:ext cx="7619760" cy="520560"/>
          </a:xfrm>
          <a:prstGeom prst="rect">
            <a:avLst/>
          </a:prstGeom>
          <a:gradFill rotWithShape="0">
            <a:gsLst>
              <a:gs pos="0">
                <a:srgbClr val="f3c78a"/>
              </a:gs>
              <a:gs pos="100000">
                <a:srgbClr val="faeddd"/>
              </a:gs>
            </a:gsLst>
            <a:lin ang="5400000"/>
          </a:gra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is nothing that is sweeter than this”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icrosoft Sans Serif"/>
              </a:rPr>
              <a:t>Peers, Mentors &amp; Navigators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228600" y="1428840"/>
            <a:ext cx="4533840" cy="192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4952880" y="2452680"/>
            <a:ext cx="4010040" cy="27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3" name="Picture 8" descr=""/>
          <p:cNvPicPr/>
          <p:nvPr/>
        </p:nvPicPr>
        <p:blipFill>
          <a:blip r:embed="rId3"/>
          <a:stretch/>
        </p:blipFill>
        <p:spPr>
          <a:xfrm>
            <a:off x="228600" y="3686040"/>
            <a:ext cx="4495680" cy="210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15:38:17Z</dcterms:created>
  <dc:creator/>
  <dc:description/>
  <dc:language>en-US</dc:language>
  <cp:lastModifiedBy/>
  <dcterms:modified xsi:type="dcterms:W3CDTF">2011-05-25T02:24:52Z</dcterms:modified>
  <cp:revision>219</cp:revision>
  <dc:subject/>
  <dc:title>Slide 1</dc:title>
</cp:coreProperties>
</file>